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C6BC-FCAB-4993-9C06-E2F53B88E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1D4C-2DC0-442C-84C3-758EA681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discuss the answers to these questions in small groups, then bring any questions and comments to the larger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D1AA-7455-4526-B094-5413613C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Allow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ample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ime for small group and whole group discussion of each of the first two questions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before distributing the hando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Allow about 40 minutes for pairs to work on the open tasks hando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60D2-AF6A-45D2-98DF-25D56FA2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participants may not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sion questions always end up with a number divided b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t 4 in dividing fractions shows why ‘invert and multiply’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ther knowledge/skills requir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od understanding of “howmuchness” of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nderstanding that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numerator increases when you multiply a fraction by a whole number (e.g., doubling = more parts of the same size)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denominator decreases (e.g., doubling makes larger parts, so half as many of the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nderstanding that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numerator decreases when you divide a fraction by a whole number (e.g., halving cuts the number of parts in two)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denominator increases (e.g., halving makes smaller parts, so twice as many of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09D-1268-4539-8D16-7E1418CB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idden slide – use only if neede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804D-8962-4DF5-A0C1-60BF6656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idden slide – use only if neede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F44-3483-45F5-BA00-7886E00E5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EB6-56AE-4BE2-90F6-362DA36C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E14-B147-4279-AE00-2EEB100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2A4-79BA-4D26-8AD6-17564FBE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B52-FA90-4EF8-96A8-3B459459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0E2D-1761-45EB-8DD3-5444BDD6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29EA-17C9-4719-B25F-CF01A0A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D91-03ED-4A68-9A47-8078333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C010-B6E8-445E-BA73-8146DC26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3599-2B8E-49E1-8A46-11D51C8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19CD-E5BB-4BB1-AE22-B6708978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B123-0407-4192-9EF0-9F70109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AD9-08BD-459B-AF48-39E8AEA2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17C0-D23E-43B4-A4DE-7D85C314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7F76-4AB4-4785-9F7B-A2E11225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33C3-3709-47BD-B7E7-825DDE7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207-34B5-4493-9FCF-6B162295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C463-8414-47D6-86E1-1AC47D72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686-0CB4-46CB-89D8-B3C3C220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7D2-6034-4AD8-BBBB-53AF653F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7E2-E6DF-4E5B-8847-C62211CD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CB3-FAB4-43B1-9EE0-BAFE23F4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624-0873-42D2-92B2-9190E81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752-8462-42CF-B929-EB211379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CD2-18A3-45B4-AA20-F241D032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3292-F868-43CA-998F-2FCB5F004D9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C54F-2D0C-41CE-8601-E7FE1D3AF1F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Arial"/>
              </a:rPr>
              <a:t>Grades 7/8 Breakout Session 4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Operations with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solve two or three of the open tasks on the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each task, represent your thinking in more than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ng on the Open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each task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es each task support both students who may struggle with fractions and those who may require a chall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kind of proportional reasoning about fractions help students develop a deeper understanding of operations with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Enjoy a wonderful break </a:t>
            </a:r>
            <a:r>
              <a:rPr b="0" lang="en-US" sz="4800" spc="-1" strike="noStrike">
                <a:solidFill>
                  <a:srgbClr val="0d469b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ontinue to develop our math talk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deepen understanding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solve open tasks related to operations with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Strategies for Multi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elationships within and among the following sets of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826920" y="3716280"/>
            <a:ext cx="6913800" cy="2919600"/>
            <a:chOff x="826920" y="3716280"/>
            <a:chExt cx="6913800" cy="2919600"/>
          </a:xfrm>
        </p:grpSpPr>
        <p:sp>
          <p:nvSpPr>
            <p:cNvPr id="98" name="TextBox 4"/>
            <p:cNvSpPr/>
            <p:nvPr/>
          </p:nvSpPr>
          <p:spPr>
            <a:xfrm>
              <a:off x="826920" y="3716280"/>
              <a:ext cx="12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4 x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28 x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56 x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826920" y="544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28 x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4 x 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419640" y="3716280"/>
              <a:ext cx="14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6 x 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8 x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4 x 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3419640" y="544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5 x 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.0 x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8"/>
            <p:cNvSpPr/>
            <p:nvPr/>
          </p:nvSpPr>
          <p:spPr>
            <a:xfrm>
              <a:off x="6012360" y="3716280"/>
              <a:ext cx="12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6 x 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3 x 7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9"/>
            <p:cNvSpPr/>
            <p:nvPr/>
          </p:nvSpPr>
          <p:spPr>
            <a:xfrm>
              <a:off x="5940360" y="5444640"/>
              <a:ext cx="180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8 x 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4 x 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2 x 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ving and Dou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is strategy work for multiplying whole numbers and dec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the same strategy work for dividing whole numbers and dec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halving and doubling strategy with fractions (Mental Strategies for Multiplying Fractions hand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knowledge/skills are required to use this strategy for dividing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uld you always use this strategy when multiplying or dividing fractions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ing about Division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n solved             by dividing 15 by 3 and 16 by 8 to get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, using more than one representation if possible, why dividing numerators and dividing denominators ‘works’ to divide fraction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587760" y="2549520"/>
            <a:ext cx="1055520" cy="735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4460040" y="-137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87280" cy="865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4469400" y="185760"/>
            <a:ext cx="20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 does dividing numerators and dividing denominators to divide fraction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8348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Mick</cp:lastModifiedBy>
  <dcterms:modified xsi:type="dcterms:W3CDTF">2010-08-09T21:35:09Z</dcterms:modified>
  <cp:revision>215</cp:revision>
  <dc:subject/>
  <dc:title>Slide 1</dc:title>
</cp:coreProperties>
</file>